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ct"/><Relationship Id="rId7" Type="http://schemas.openxmlformats.org/officeDocument/2006/relationships/image" Target="../media/image6.pct"/><Relationship Id="rId8" Type="http://schemas.openxmlformats.org/officeDocument/2006/relationships/image" Target="../media/image7.pct"/><Relationship Id="rId9" Type="http://schemas.openxmlformats.org/officeDocument/2006/relationships/image" Target="../media/image8.pct"/><Relationship Id="rId10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-63360" y="-12600"/>
            <a:ext cx="6095880" cy="6095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6908760" y="3581280"/>
            <a:ext cx="6095880" cy="60962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77600"/>
            <a:ext cx="10464840" cy="3302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caling and Managing LAMP at Wikimedi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8210520"/>
            <a:ext cx="598176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Brion Vibb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CTO, Wikimedia Foun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4762440" y="8210520"/>
            <a:ext cx="796284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an Francisco PHP Meetu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an Francisco, CA 2008-12-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816120" y="1346040"/>
            <a:ext cx="4241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ood for static-dynamic sites like a wiki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8788320" y="4343400"/>
            <a:ext cx="3861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 public face of a given page doesn’t change very often, so you can cache at the HTTP leve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239480" y="600480"/>
            <a:ext cx="1028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ood for geographic load balancing, too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125880" y="1467000"/>
            <a:ext cx="65149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e cheaper, faster local bandwidth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901800"/>
            <a:ext cx="40640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HP compiles your scripts to bytecod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591400" y="5270400"/>
            <a:ext cx="40006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then throws it away after execu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8131320" y="692280"/>
            <a:ext cx="3708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piling on every run adds a lot of overhead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711360" y="5054760"/>
            <a:ext cx="41018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especially as your application grow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7381800" y="7302600"/>
            <a:ext cx="5194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pulling in lots of framework and library cod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10240920" y="5118120"/>
            <a:ext cx="2222640" cy="10159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1143000" y="71121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8"/>
          <a:stretch/>
        </p:blipFill>
        <p:spPr>
          <a:xfrm>
            <a:off x="8001000" y="6413400"/>
            <a:ext cx="2540160" cy="8254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>
            <a:off x="11633040" y="6438960"/>
            <a:ext cx="1016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281160" y="590400"/>
            <a:ext cx="48891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lways use an opcode cache with PHP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9356400" y="2160360"/>
            <a:ext cx="357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Accelerat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Zend Platfor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31640" y="4908600"/>
            <a:ext cx="458496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rastically reduces startup time for large apps, and moderate improvements even for small scrip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20" y="4641840"/>
            <a:ext cx="3822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re temporary data in your network’s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9067680" y="4940280"/>
            <a:ext cx="2934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aster than disk-backed database when you just need an object cach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asic LAMP stac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Now add cash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1007640" y="918000"/>
            <a:ext cx="1097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ut underutilized memory and disk to work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209680" y="2692440"/>
            <a:ext cx="8102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ose web servers come with plenty of memory and disk space. Use it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879560" y="6889680"/>
            <a:ext cx="4915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bit of memory on each server adds up to a big memcached store spac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248520" y="7016760"/>
            <a:ext cx="4914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sk space can be used for replicated bulk data storage at very little CPU co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4924080" y="8017200"/>
            <a:ext cx="314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reak it up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1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5156280" y="4550040"/>
            <a:ext cx="692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nglish-language 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5391720" y="6074280"/>
            <a:ext cx="530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ext 19 biggest wik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1244520" y="5765760"/>
            <a:ext cx="381024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2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1244520" y="7264440"/>
            <a:ext cx="381024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3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5582880" y="7572960"/>
            <a:ext cx="360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ext 764 wik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>
            <a:off x="1320840" y="2254320"/>
            <a:ext cx="103503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plit along logical data partitions, such as subsites that don’t interact closel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>
            <a:off x="3077280" y="1001880"/>
            <a:ext cx="59504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  <a:ea typeface="Gill Sans"/>
              </a:rPr>
              <a:t>Simple Sharding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3555720" y="17524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nu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ach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HP / Perl / Python / Pwhatev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560240" y="1756080"/>
            <a:ext cx="469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y’all know the drill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big ir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>
            <a:off x="4968720" y="3909960"/>
            <a:ext cx="7296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ge metadata, links, user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read/write/upd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active index sc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>
            <a:off x="5861160" y="6693840"/>
            <a:ext cx="5511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pend-only bulk 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nice simple blob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>
            <a:off x="1320840" y="2565360"/>
            <a:ext cx="10350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plit along functional boundarie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>
            <a:off x="2412000" y="1001880"/>
            <a:ext cx="72792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  <a:ea typeface="Gill Sans"/>
              </a:rPr>
              <a:t>Functional Sharding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>
            <a:off x="1257480" y="6235560"/>
            <a:ext cx="126972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1257480" y="7505640"/>
            <a:ext cx="1269720" cy="596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2514600" y="6235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2514600" y="7505640"/>
            <a:ext cx="1270080" cy="596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3772080" y="6235560"/>
            <a:ext cx="126972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3772080" y="7505640"/>
            <a:ext cx="1269720" cy="596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e for speed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653760" y="4230000"/>
            <a:ext cx="4725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edium write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w read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>
            <a:off x="6114960" y="4230000"/>
            <a:ext cx="4725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edium write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igh read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"/>
          <p:cNvSpPr/>
          <p:nvPr/>
        </p:nvSpPr>
        <p:spPr>
          <a:xfrm>
            <a:off x="2209680" y="6521400"/>
            <a:ext cx="8572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but your application now has to think about replication la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&amp; reliability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solidFill>
            <a:srgbClr val="bf0000"/>
          </a:solidFill>
          <a:ln w="25560">
            <a:solidFill>
              <a:srgbClr val="979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3" name=""/>
          <p:cNvSpPr/>
          <p:nvPr/>
        </p:nvSpPr>
        <p:spPr>
          <a:xfrm>
            <a:off x="2971800" y="5638680"/>
            <a:ext cx="6718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mote a slav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1494000" y="4296240"/>
            <a:ext cx="337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aster dea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"/>
          <p:cNvSpPr/>
          <p:nvPr/>
        </p:nvSpPr>
        <p:spPr>
          <a:xfrm>
            <a:off x="5613480" y="6540480"/>
            <a:ext cx="25527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>
            <a:off x="1320840" y="6540480"/>
            <a:ext cx="3708360" cy="1270080"/>
          </a:xfrm>
          <a:prstGeom prst="rect">
            <a:avLst/>
          </a:prstGeom>
          <a:solidFill>
            <a:srgbClr val="bd0000"/>
          </a:solidFill>
          <a:ln w="25560">
            <a:solidFill>
              <a:srgbClr val="979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cheduled for maintenance..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2139840" y="8423640"/>
            <a:ext cx="998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but failover isn’t automated with MySQ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>
            <a:off x="8242200" y="6527880"/>
            <a:ext cx="393840" cy="1295280"/>
          </a:xfrm>
          <a:prstGeom prst="rightArrow">
            <a:avLst>
              <a:gd name="adj1" fmla="val 64000"/>
              <a:gd name="adj2" fmla="val 7990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ion lag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139680" y="1892160"/>
            <a:ext cx="4965840" cy="42465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3035160" y="3098880"/>
            <a:ext cx="5753160" cy="45990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7201080" y="5181480"/>
            <a:ext cx="5702040" cy="48769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8661240" y="3753000"/>
            <a:ext cx="39499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re’d my edit go??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ion lag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600" y="6438960"/>
            <a:ext cx="10464840" cy="295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es are replicated after they complete on the master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..and parallel writes are serialized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"/>
          <p:cNvSpPr/>
          <p:nvPr/>
        </p:nvSpPr>
        <p:spPr>
          <a:xfrm>
            <a:off x="6807240" y="5410080"/>
            <a:ext cx="373392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"/>
          <p:cNvSpPr/>
          <p:nvPr/>
        </p:nvSpPr>
        <p:spPr>
          <a:xfrm>
            <a:off x="370836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"/>
          <p:cNvSpPr/>
          <p:nvPr/>
        </p:nvSpPr>
        <p:spPr>
          <a:xfrm>
            <a:off x="543564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"/>
          <p:cNvSpPr/>
          <p:nvPr/>
        </p:nvSpPr>
        <p:spPr>
          <a:xfrm>
            <a:off x="1943280" y="3492360"/>
            <a:ext cx="373356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"/>
          <p:cNvSpPr/>
          <p:nvPr/>
        </p:nvSpPr>
        <p:spPr>
          <a:xfrm>
            <a:off x="240048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"/>
          <p:cNvSpPr/>
          <p:nvPr/>
        </p:nvSpPr>
        <p:spPr>
          <a:xfrm>
            <a:off x="414036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"/>
          <p:cNvSpPr/>
          <p:nvPr/>
        </p:nvSpPr>
        <p:spPr>
          <a:xfrm>
            <a:off x="817740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"/>
          <p:cNvSpPr/>
          <p:nvPr/>
        </p:nvSpPr>
        <p:spPr>
          <a:xfrm>
            <a:off x="384660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"/>
          <p:cNvSpPr/>
          <p:nvPr/>
        </p:nvSpPr>
        <p:spPr>
          <a:xfrm>
            <a:off x="557388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"/>
          <p:cNvSpPr/>
          <p:nvPr/>
        </p:nvSpPr>
        <p:spPr>
          <a:xfrm>
            <a:off x="250056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425304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"/>
          <p:cNvSpPr/>
          <p:nvPr/>
        </p:nvSpPr>
        <p:spPr>
          <a:xfrm>
            <a:off x="3313440" y="351864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91800" y="4900680"/>
            <a:ext cx="10325160" cy="1440"/>
          </a:xfrm>
          <a:prstGeom prst="line">
            <a:avLst/>
          </a:prstGeom>
          <a:ln w="101520">
            <a:solidFill>
              <a:srgbClr val="8697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"/>
          <p:cNvSpPr/>
          <p:nvPr/>
        </p:nvSpPr>
        <p:spPr>
          <a:xfrm>
            <a:off x="533160" y="4575600"/>
            <a:ext cx="1233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dff"/>
                </a:solidFill>
                <a:latin typeface="Gill Sans"/>
                <a:ea typeface="Gill Sans"/>
              </a:rPr>
              <a:t>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"/>
          <p:cNvSpPr/>
          <p:nvPr/>
        </p:nvSpPr>
        <p:spPr>
          <a:xfrm>
            <a:off x="122040" y="3559680"/>
            <a:ext cx="1751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440"/>
                </a:solidFill>
                <a:latin typeface="Gill Sans"/>
                <a:ea typeface="Gill Sans"/>
              </a:rPr>
              <a:t>Ma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"/>
          <p:cNvSpPr/>
          <p:nvPr/>
        </p:nvSpPr>
        <p:spPr>
          <a:xfrm>
            <a:off x="511920" y="5299560"/>
            <a:ext cx="1300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0fec2"/>
                </a:solidFill>
                <a:latin typeface="Gill Sans"/>
                <a:ea typeface="Gill Sans"/>
              </a:rPr>
              <a:t>Slav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>
            <a:off x="1064268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"/>
          <p:cNvSpPr/>
          <p:nvPr/>
        </p:nvSpPr>
        <p:spPr>
          <a:xfrm>
            <a:off x="1078092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7" name=""/>
          <p:cNvSpPr/>
          <p:nvPr/>
        </p:nvSpPr>
        <p:spPr>
          <a:xfrm>
            <a:off x="588024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599292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hoose hardware wisel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bfc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fc2"/>
                </a:solidFill>
                <a:latin typeface="Gill Sans"/>
              </a:rPr>
              <a:t>Conventional wisdom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ster should be beefy megaserver, slaves can be wimp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aeff9b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eff9b"/>
                </a:solidFill>
                <a:latin typeface="Gill Sans"/>
              </a:rPr>
              <a:t>Secret truth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laves need to handle writes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fas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n master to keep up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void slow writes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0464840" cy="135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PDATE or DELETE of thousands of row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1244520" y="3162240"/>
            <a:ext cx="5829480" cy="28069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4483080" y="8064360"/>
            <a:ext cx="83566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chema updates -- ALTER T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8329680" y="4229280"/>
            <a:ext cx="38624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ass updates are a schema smel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8181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8181"/>
                </a:solidFill>
                <a:latin typeface="Gill Sans"/>
              </a:rPr>
              <a:t>Hack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isable renaming for “George W. Bush” page so we don’t have to UPDATE title in 50,000 old-revision row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eb8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b8f"/>
                </a:solidFill>
                <a:latin typeface="Gill Sans"/>
              </a:rPr>
              <a:t>Better: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bulk UPDATEs in small batches to help the replication stream serializ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9dff8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dff8c"/>
                </a:solidFill>
                <a:latin typeface="Gill Sans"/>
              </a:rPr>
              <a:t>Best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Refactor DB schema so title need only be updated once in article page t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n upgrade trick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solidFill>
            <a:srgbClr val="c7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old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solidFill>
            <a:srgbClr val="bca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LTER T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"/>
          <p:cNvSpPr/>
          <p:nvPr/>
        </p:nvSpPr>
        <p:spPr>
          <a:xfrm>
            <a:off x="1028880" y="5715000"/>
            <a:ext cx="6717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then swap master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"/>
          <p:cNvSpPr/>
          <p:nvPr/>
        </p:nvSpPr>
        <p:spPr>
          <a:xfrm>
            <a:off x="3568320" y="4128480"/>
            <a:ext cx="8269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ply schema changes on slaves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sabling them one at tim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"/>
          <p:cNvSpPr/>
          <p:nvPr/>
        </p:nvSpPr>
        <p:spPr>
          <a:xfrm>
            <a:off x="5600880" y="6540480"/>
            <a:ext cx="253980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"/>
          <p:cNvSpPr/>
          <p:nvPr/>
        </p:nvSpPr>
        <p:spPr>
          <a:xfrm>
            <a:off x="4013280" y="8147160"/>
            <a:ext cx="70866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for low-downtime column and index chang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7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"/>
          <p:cNvSpPr/>
          <p:nvPr/>
        </p:nvSpPr>
        <p:spPr>
          <a:xfrm>
            <a:off x="1282680" y="6540480"/>
            <a:ext cx="3809880" cy="1270080"/>
          </a:xfrm>
          <a:prstGeom prst="rect">
            <a:avLst/>
          </a:prstGeom>
          <a:solidFill>
            <a:srgbClr val="bca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LTER T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"/>
          <p:cNvSpPr/>
          <p:nvPr/>
        </p:nvSpPr>
        <p:spPr>
          <a:xfrm>
            <a:off x="8242200" y="6527880"/>
            <a:ext cx="393840" cy="1295280"/>
          </a:xfrm>
          <a:prstGeom prst="rightArrow">
            <a:avLst>
              <a:gd name="adj1" fmla="val 64000"/>
              <a:gd name="adj2" fmla="val 7990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130000" y="6527880"/>
            <a:ext cx="406440" cy="1295280"/>
          </a:xfrm>
          <a:prstGeom prst="rightArrow">
            <a:avLst>
              <a:gd name="adj1" fmla="val 64000"/>
              <a:gd name="adj2" fmla="val 77412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/>
          <p:nvPr/>
        </p:nvSpPr>
        <p:spPr>
          <a:xfrm>
            <a:off x="9621720" y="2162520"/>
            <a:ext cx="43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"/>
          <p:cNvSpPr/>
          <p:nvPr/>
        </p:nvSpPr>
        <p:spPr>
          <a:xfrm>
            <a:off x="2966760" y="7547400"/>
            <a:ext cx="43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ication logic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slaves for amount of lag -- application-specific fallback behavi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omatically engage maintenance mode if slaves are too far behi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ore the last master position the session needs -- often we can catch up quickly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eep it simpl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2129040" y="3318480"/>
            <a:ext cx="312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the cor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ctory func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"/>
          <p:cNvSpPr/>
          <p:nvPr/>
        </p:nvSpPr>
        <p:spPr>
          <a:xfrm>
            <a:off x="1627200" y="4435920"/>
            <a:ext cx="6570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w = wfGetDB(</a:t>
            </a:r>
            <a:r>
              <a:rPr b="0" lang="en-US" sz="3600" spc="-1" strike="noStrike">
                <a:solidFill>
                  <a:srgbClr val="ff2c2c"/>
                </a:solidFill>
                <a:latin typeface="Monaco"/>
                <a:ea typeface="Monaco"/>
              </a:rPr>
              <a:t>DB_MASTER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w-&gt;</a:t>
            </a:r>
            <a:r>
              <a:rPr b="0" lang="en-US" sz="3600" spc="-1" strike="noStrike">
                <a:solidFill>
                  <a:srgbClr val="ff2528"/>
                </a:solidFill>
                <a:latin typeface="Monaco"/>
                <a:ea typeface="Monaco"/>
              </a:rPr>
              <a:t>insert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...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"/>
          <p:cNvSpPr/>
          <p:nvPr/>
        </p:nvSpPr>
        <p:spPr>
          <a:xfrm>
            <a:off x="3073320" y="6629400"/>
            <a:ext cx="7962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r = wfGetDB(</a:t>
            </a:r>
            <a:r>
              <a:rPr b="0" lang="en-US" sz="3600" spc="-1" strike="noStrike">
                <a:solidFill>
                  <a:srgbClr val="4dff3c"/>
                </a:solidFill>
                <a:latin typeface="Monaco"/>
                <a:ea typeface="Monaco"/>
              </a:rPr>
              <a:t>DB_SLAV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row = $dbr-&gt;</a:t>
            </a:r>
            <a:r>
              <a:rPr b="0" lang="en-US" sz="3600" spc="-1" strike="noStrike">
                <a:solidFill>
                  <a:srgbClr val="42ff42"/>
                </a:solidFill>
                <a:latin typeface="Monaco"/>
                <a:ea typeface="Monaco"/>
              </a:rPr>
              <a:t>selectRow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...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"/>
          <p:cNvSpPr/>
          <p:nvPr/>
        </p:nvSpPr>
        <p:spPr>
          <a:xfrm>
            <a:off x="1580400" y="2823120"/>
            <a:ext cx="912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bstract your database connection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4343400" y="876240"/>
            <a:ext cx="103503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fGetDB(</a:t>
            </a:r>
            <a:r>
              <a:rPr b="0" lang="en-US" sz="3600" spc="-1" strike="noStrike">
                <a:solidFill>
                  <a:srgbClr val="ff2c2c"/>
                </a:solidFill>
                <a:latin typeface="Monaco"/>
                <a:ea typeface="Monaco"/>
              </a:rPr>
              <a:t>DB_MAS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adBalancer_Mult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8989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898989"/>
                </a:solidFill>
                <a:latin typeface="Gill Sans"/>
                <a:ea typeface="Gill Sans"/>
              </a:rPr>
              <a:t>connect to master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base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"/>
          <p:cNvSpPr/>
          <p:nvPr/>
        </p:nvSpPr>
        <p:spPr>
          <a:xfrm>
            <a:off x="1206360" y="4686480"/>
            <a:ext cx="1035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fGetDB(</a:t>
            </a:r>
            <a:r>
              <a:rPr b="0" lang="en-US" sz="3600" spc="-1" strike="noStrike">
                <a:solidFill>
                  <a:srgbClr val="4dff3c"/>
                </a:solidFill>
                <a:latin typeface="Monaco"/>
                <a:ea typeface="Monaco"/>
              </a:rPr>
              <a:t>DB_SLAV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adBalancer_Mult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check slave lag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find a slave caught up to session stat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base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9595"/>
                </a:solidFill>
                <a:latin typeface="Gill Sans"/>
                <a:ea typeface="Gill Sans"/>
              </a:rPr>
              <a:t>           </a:t>
            </a:r>
            <a:r>
              <a:rPr b="0" lang="en-US" sz="4200" spc="-1" strike="noStrike">
                <a:solidFill>
                  <a:srgbClr val="959595"/>
                </a:solidFill>
                <a:latin typeface="Gill Sans"/>
                <a:ea typeface="Gill Sans"/>
              </a:rPr>
              <a:t>report warnings if lag too high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dat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"/>
          <p:cNvSpPr/>
          <p:nvPr/>
        </p:nvSpPr>
        <p:spPr>
          <a:xfrm>
            <a:off x="990720" y="2425680"/>
            <a:ext cx="107823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/**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 Notify the ChronologyProtector that the LBFact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 is done calling shutdownLB() for now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 May commit chronology data to persistent storag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function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) 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  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if 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ession_id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) != 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''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&amp;&amp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 ) 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wfDebug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__METHOD__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": saving master pos for "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   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 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   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" master(s)\n"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$_SESSION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[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__CLASS__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] =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n PHP trick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ub obje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5" name=""/>
          <p:cNvSpPr/>
          <p:nvPr/>
        </p:nvSpPr>
        <p:spPr>
          <a:xfrm>
            <a:off x="62280" y="2797560"/>
            <a:ext cx="1286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n you can’t refactor to use factory functions... :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"/>
          <p:cNvSpPr/>
          <p:nvPr/>
        </p:nvSpPr>
        <p:spPr>
          <a:xfrm>
            <a:off x="1650240" y="3938040"/>
            <a:ext cx="10958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$wgUser = new StubObject(‘wgUser’, ‘User’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$wgUser-&gt;blah(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// stub object replaces $wgUser glob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// with new User object, calls blah() 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// returns result transparentl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// ewwwww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oloader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8" name=""/>
          <p:cNvSpPr/>
          <p:nvPr/>
        </p:nvSpPr>
        <p:spPr>
          <a:xfrm>
            <a:off x="1005480" y="2906640"/>
            <a:ext cx="10981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utoloading classes is rumored to be slow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t it’s a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faster than loading everyt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p front if you have no opcode cach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9" name=""/>
          <p:cNvSpPr/>
          <p:nvPr/>
        </p:nvSpPr>
        <p:spPr>
          <a:xfrm>
            <a:off x="-8082720" y="6757200"/>
            <a:ext cx="29162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$wgAutoloadLocalClasses = array(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# Includ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'AjaxDispatcher' =&gt; 'includes/AjaxDispatcher.php',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'AjaxResponse' =&gt; 'includes/AjaxResponse.php',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'AlphabeticPager' =&gt; 'includes/Pager.php'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"/>
          <p:cNvSpPr/>
          <p:nvPr/>
        </p:nvSpPr>
        <p:spPr>
          <a:xfrm>
            <a:off x="1194480" y="8050320"/>
            <a:ext cx="10604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http://leuksman.com/pages/presen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800600" y="3543480"/>
            <a:ext cx="3403440" cy="126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5511960" y="5676840"/>
            <a:ext cx="19810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6242040" y="45910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hhh, simple is nice.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: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imple is slow.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:(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irst, add cache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